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12C9-293C-45A7-B1E7-2CCFB51BD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1A83-C692-4470-A6CD-9A866BBF0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eparado por Gerry Marten y Julie Marten (Proyecto de Puntos de Inflexión Ecológic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AA7E-5B3C-4133-AD19-D5CA139CB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040"/>
            <a:ext cx="5029200" cy="4876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1f1f"/>
                </a:solidFill>
                <a:latin typeface="Verdana"/>
              </a:rPr>
              <a:t>La memoria social fue fundamental después de que los isleños de Apo prohibieran la pesca destructiva.  Los pescadores regresaron a sus prácticas tradicionales de anzuelos, trampas, y redes de malla grande, ya que sabían que funcionaban y eran más sustentables que los métodos destructivos.  La memoria ambiental del ecosistema marino consiste en la red de co-adaptaciones entre sus habitantes (producto de la evolución biológica) y fue la clave de su recuperación como valioso recurso.  Además, las memorias social y ambiental fueron fundamentales en donde ubicar el santuario.  Los isleños seleccionaron un sección altamente degradada, pero que consideraban tenía el mayor potencial de recuperación, porque en el pasado había tenido el arrecife más diverso.  Finalmente, cuando los isleños decidieron cuanto pescar al recuperarse las poblaciones, regresaron a sus valores tradicionales “tomando solo lo necesario”.  Pudieron haber aumentado su captura (y sus ingresos) pescando de solo a sol (como lo habían hecho antes cuando no había peces).  Pero en cambio decidieron reducir la intensidad de su esfuerzo pesquero, manteniendo la captura total estable, lo cual fue una estrategia sabiamente sustentable. Aunque dedicaron parte de su nuevo “tiempo libre” a diversificar su economía, los pescadores también dedicaron mucho más tiempo a su familia y comunidad, de acuerdo otra vez con los valores tradicionales y su calidad de vid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F071-BC5C-4312-9A28-865C27AB9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1f1f"/>
                </a:solidFill>
                <a:latin typeface="Verdana"/>
              </a:rPr>
              <a:t>La “resiliencia” es la capacidad para continuar funcionando a pesar de perturbaciones severas ocasionales.  La clave es la adaptabilidad.  Los isleños demostraron su capacidad adaptativa cuando el turismo de buceo comenzó a dañar al arrecife e interferir con la pesca.  Su experiencia gestionando la pesquería les dio la perspicacia y confianza para reglamentar el buceo, aún si esto mermaba sus ingresos turísticos a corto plazo.  A largo plazo los efectos derivados del santuario, como los ingresos turísticos, las agrupaciones de mujeres, el fortalecimiento de la solidaridad comunitaria, las mejoras educativas, y las carreras profesionales de algunos en tierra firme han fortalecido la capacidad de la comunidad isleña de enfrentar exitosamente retos futuros e inciert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80AB-BD50-461B-B5F9-19FC7F0E1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1f1f"/>
                </a:solidFill>
                <a:latin typeface="Verdana"/>
              </a:rPr>
              <a:t>Los foráneos pueden ser una fuente de ideas nuevas.  El santuario marino fue creado tras tres años de diálogo entre los isleños y el personal de la Universidad de Silliman – un diálogo que ayudó a los pescadores y a sus familias a reconocer lo que sucedía con su pesquería y lo que podía hacerse al respecto.  El biólogo marino Ángel Alcalá llevó a algunos pescadores a una pequeña reserva en otra isla, donde pudieron ver el impacto dramático sobre de esta protección sobre las poblaciones de peces.  Después, la asistencia de una ONG fue crítica para lograr la autoridad por parte del gobierno local (barangay) para controlar la pesquería de la isla.  Años después otra ONG les ayudó a los isleños a implementar un programa de planificación famili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7B3B-428D-4D4D-9B72-6F72A4347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s comunidades en las historias de Puntos de Inflexión Ecológica avanzan sobre sus propias decisiones, con su propia mano de obra y recursos.  La creación del santuario y la subsiguiente gestión comunitaria de la pesquería de la isla fueron producto de un diálogo comunitario.  El gobierno local (barangay) asumió el liderazgo, pero las decisiones clave fueron hechas por una asamblea representativa de las familias isleñas en el patio escolar en que se trataron los temas relevantes hasta lograr un acuerdo, aun cuando tomo varios días de negociaciones hacerlo.  La persistencia ha sido fundamental para el éxito a largo plazo.  Aunque al principio no todos los isleños estaban convencidos de que el santuario fuera buena idea, la dedicación de aquellos que si lo estaban persistió hasta que los beneficios se hicieron obvios para todos.  La líder del barangay en su momento, y su familia, han estado comprometidos desde el comienzo a través de una dinastía de lideres barangay.  Su compromiso se ha vinculado con la actividad empresarial en el desarrollo turístico de la isla y en las iniciativas educativas hechas posibles por dichos ingre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AAF5-C2CB-4B36-8632-82028198A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1f1f"/>
                </a:solidFill>
                <a:latin typeface="Verdana"/>
              </a:rPr>
              <a:t>El sistema social y el ecosistema encajan entre si, funcionando en conjunto.  Cuando los isleños establecieron su santuario marino, pusieron en marcha un “bien social común” correspondiente al “bien ambiental común” que compartían- es decir, el arrecife y su pesquería. El bien común social comenzó con la gestión comunitaria del santuario y evolucionó para gestionar toda la pesquería.  La cooperación social fue facilitada por una red de confianzas y obligaciones en la pequeña comunidad donde todos son parientes, ya sea por sangre o matrimonio.  La cooperación funcionó porque se basó en la sabiduría tradicional comunitaria para desarrollar reglas efectivas para proteger su pesquería, y porque dichas reglas fueron de aplicación sencilla (véase Superando Obstáculos Sociales a continuación).  El ecosistema marino respondió sanándose y respondiendo a las necesidades comunitarias.  Una vez que el Punto de Inflexión Ecológica- el santuario marino y la organización social correspondiente- inició el cambio positivo, los procesos normales sociales, gubernamentales y ambientales se encargaron del rest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61BD-B904-4FA7-BA7C-23FC7EA96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1f1f"/>
                </a:solidFill>
                <a:latin typeface="Verdana"/>
              </a:rPr>
              <a:t>EcoTipping Points give nature the opportunity to marshal its self-organizing powers to set restoration in motion. As soon as fish were protected in Apo’s marine sanctuary, their high reproductive capacity enabled them to quickly repopulate the sanctuary. When destructive fishing was no longer allowed around the Island’s fishing grounds, nature set in motion a complex restoration process for the entire coral ecosystem </a:t>
            </a:r>
            <a:r>
              <a:rPr b="0" lang="es-MX" sz="1200" spc="-1" strike="noStrike">
                <a:solidFill>
                  <a:srgbClr val="000000"/>
                </a:solidFill>
                <a:latin typeface="Arial"/>
              </a:rPr>
              <a:t>—</a:t>
            </a:r>
            <a:r>
              <a:rPr b="0" lang="es-MX" sz="1200" spc="-1" strike="noStrike">
                <a:solidFill>
                  <a:srgbClr val="1f1f1f"/>
                </a:solidFill>
                <a:latin typeface="Verdana"/>
              </a:rPr>
              <a:t> something that human micro-management of the ecosystem could never achie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2B2B-E5A3-4756-9820-982778114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1f1f"/>
                </a:solidFill>
                <a:latin typeface="Verdana"/>
              </a:rPr>
              <a:t>Los resultados rápidos ayudan a movilizar la acción comunitaria.  Tres años después de establecer el santuario, el aumento en las poblaciones de peces fue tan dramático que inspiró a los isleños a gestionar toda su pesquería.  La recuperación de las poblaciones de peces fuera del santuario tomó más tiempo, pero hubo mejoras visibles desde el principio.  La espectacular recuperación del ecosistema arrecifal atrajo al turismo, reforzando el compromiso de los isleños con un ambiente marino sano.  Una porción significativa de los ingresos turísticos regresaron a la comunidad en términos de infraestructura (de agua potable, electricidad y renovación de la escuela primaria) y proyectos de desarrollo comunitario (una panadería, micro-créditos y cooperativas mercantiles), reforzando aún mas la dedicac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01A3-7E07-4210-9B44-D2E45FCF2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1f1f"/>
                </a:solidFill>
                <a:latin typeface="Verdana"/>
              </a:rPr>
              <a:t>Los isleños dicen que el santuario marino rescató el ecosistema marino de la isla, su pesquería y su forma de vida.  El santuario es un sitio sagrado para los habitantes de la isla.  Es el corazón de una orgullosa historia de sus logros.  Es impensable violar el santuario o lo que represent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f1f"/>
                </a:solidFill>
                <a:latin typeface="Verdana"/>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6855-A5B9-46AE-B14F-75BDAA137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1f1f"/>
                </a:solidFill>
                <a:latin typeface="Verdana"/>
              </a:rPr>
              <a:t>El mayor contexto socio-económico puede presentar serios obstáculos al éxito a escala local.  Por ejemplo, la gente puede tener tantas exigencias sobre su tiempo que les es imposible dedicarle tiempo a proyectos comunitarios.  La comunidad isleña desarrolló maneras de gestionar su ecosistema marino sin exigir demasiadas horas de los residentes.  La prohibición de la pesca dentro del santuario pudo vigilarse fácilmente por una sola persona desde la playa- una tarea que fue rotada entre familias.  Igualmente los pescadores alrededor de la isla fácilmente podían constatar si había pescadores foráneos o si se utilizaban métodos ilegales de pesca.  Otro obstáculo común es la autoridad gubernamental que impide a la comunidad local hacer lo necesario.  Este es un tema de autonomía local.  El gobierno local de la isla de Apo se enfrentó a este problema cuando decidió excluir a pescadores foráneos (sin precedente legal o tradicional en las Filipinas) y vigilar las artes de pesca (cuando esta vigilancia correspondía a otros niveles del gobierno).  Afortunadamente los isleños pudieron negociar el permiso de las autoridades para implementar estas innovaciones.  Finalmente el establecimiento de una red nacional de santuarios marinos, llamado el Sistema Integrado Nacional de Áreas Protegidas (SINAP), inspirado por el éxito de Apo, representó un reto fuerte a la autonomía local.  Antes, las decisiones sobre la gestión de la pesquería las hacia la comunidad misma, pero ahora el consejo del SINAP tiene la ultima palabra.  Una consecuencia práctica es que las cuotas cobradas a turistas, que antes recibía directamente el gobierno local, ahora son enviadas a una organización nacional que solo las regresa a la isla tras demoras y reducciones substanciosas.  Los isleños continúan lidiando con los retos de la integración nacion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B5CC-DEDA-4B90-8542-2F06D1078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1f1f"/>
                </a:solidFill>
                <a:latin typeface="Verdana"/>
              </a:rPr>
              <a:t>La diversidad brinda más opciones, y por lo tanto mayor oportunidad de tomar buenas decisiones.  Ambientalmente la riqueza de especies (o diversidad) del ecosistema marino de la Isla de Apo ha aumentado su capacidad para la auto-restauración.  Socialmente, los isleños crearon su santuario y las subsiguientes innovaciones tan solo después de expandir (diversificar) su horizonte social al iniciar un diálogo con los científicos de la Universidad Silliman.   Esto permitió diversificar su concepción de las vías de acción.   Después la rica diversidad del arrecife coralino aumentó su atractivo turístico y el turismo diversificó la economía isleña.  Antes, las principales fuentes de ingresos eran la pesca, agricultura, artesanías y transporte.  El turismo generó otras fuentes de ingresos, como fueron los dos hoteles, los servicios prestados a los hoteles (cocina), la venta de playeras y pareos a turistas, hospedaje alterno para “mochileros”, y la expansión de servicios de transporte.  La educación ha permitido a las nuevas generaciones buscar empleo profesional fuera de la isla, diversificando y aumentando sus ingres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9584B-B46D-42AA-BD5B-801B87880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6B769-A58D-4F8D-8874-F7785E2F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12198-6D83-464F-BF40-C2788DB23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DA285-4A27-480F-AE6F-C7E06FEF9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BF86B-0BE9-4CB3-B219-0EA33757B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31230-3754-46E7-AE94-94501997A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E13E-BAA3-4B34-A1A1-C59880BD0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069D0-C473-4781-9C6C-3978FF778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5A6F-2811-4091-9E06-3710B7733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EE73-3DDA-4784-87B8-2347FB445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21DE-DCD6-4D44-AE7D-D88A644D5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83D1-68FF-4FDC-A3FE-05031A2C8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92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0F24-E6DB-4593-897D-E569F8748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76360" y="914400"/>
            <a:ext cx="5715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Isla de Apo</a:t>
            </a:r>
            <a:br>
              <a:rPr sz="4000"/>
            </a:br>
            <a:r>
              <a:rPr b="0" lang="es-MX" sz="4000" spc="-1" strike="noStrike">
                <a:solidFill>
                  <a:srgbClr val="333399"/>
                </a:solidFill>
                <a:latin typeface="Arial Black"/>
              </a:rPr>
              <a:t>Ingredientes </a:t>
            </a:r>
            <a:br>
              <a:rPr sz="4000"/>
            </a:br>
            <a:r>
              <a:rPr b="0" lang="es-MX" sz="4000" spc="-1" strike="noStrike">
                <a:solidFill>
                  <a:srgbClr val="333399"/>
                </a:solidFill>
                <a:latin typeface="Arial Black"/>
              </a:rPr>
              <a:t>para el Éxito</a:t>
            </a:r>
            <a:br>
              <a:rPr sz="4000"/>
            </a:br>
            <a:endParaRPr b="0" lang="en-US" sz="4000" spc="-1" strike="noStrike">
              <a:solidFill>
                <a:srgbClr val="000000"/>
              </a:solidFill>
              <a:latin typeface="Arial"/>
            </a:endParaRPr>
          </a:p>
        </p:txBody>
      </p:sp>
      <p:pic>
        <p:nvPicPr>
          <p:cNvPr id="49" name="Picture 5" descr="3 girls at beach"/>
          <p:cNvPicPr/>
          <p:nvPr/>
        </p:nvPicPr>
        <p:blipFill>
          <a:blip r:embed="rId1"/>
          <a:stretch/>
        </p:blipFill>
        <p:spPr>
          <a:xfrm>
            <a:off x="4343400" y="3333600"/>
            <a:ext cx="4800600" cy="3600720"/>
          </a:xfrm>
          <a:prstGeom prst="rect">
            <a:avLst/>
          </a:prstGeom>
          <a:ln w="0">
            <a:noFill/>
          </a:ln>
        </p:spPr>
      </p:pic>
      <p:pic>
        <p:nvPicPr>
          <p:cNvPr id="50" name="Picture 14" descr="mindanao_nature"/>
          <p:cNvPicPr/>
          <p:nvPr/>
        </p:nvPicPr>
        <p:blipFill>
          <a:blip r:embed="rId2"/>
          <a:stretch/>
        </p:blipFill>
        <p:spPr>
          <a:xfrm>
            <a:off x="0" y="3411360"/>
            <a:ext cx="4495680" cy="3598920"/>
          </a:xfrm>
          <a:prstGeom prst="rect">
            <a:avLst/>
          </a:prstGeom>
          <a:ln w="0">
            <a:noFill/>
          </a:ln>
        </p:spPr>
      </p:pic>
      <p:pic>
        <p:nvPicPr>
          <p:cNvPr id="51" name="Picture 9" descr="Alcala photo #2.JPG"/>
          <p:cNvPicPr/>
          <p:nvPr/>
        </p:nvPicPr>
        <p:blipFill>
          <a:blip r:embed="rId3"/>
          <a:stretch/>
        </p:blipFill>
        <p:spPr>
          <a:xfrm>
            <a:off x="0" y="0"/>
            <a:ext cx="308448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60"/>
            <a:ext cx="7543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Memoria social y ambiental</a:t>
            </a:r>
            <a:endParaRPr b="0" lang="en-US" sz="3200" spc="-1" strike="noStrike">
              <a:solidFill>
                <a:srgbClr val="000000"/>
              </a:solidFill>
              <a:latin typeface="Arial"/>
            </a:endParaRPr>
          </a:p>
        </p:txBody>
      </p:sp>
      <p:pic>
        <p:nvPicPr>
          <p:cNvPr id="92" name="Picture 3" descr="FH000004"/>
          <p:cNvPicPr/>
          <p:nvPr/>
        </p:nvPicPr>
        <p:blipFill>
          <a:blip r:embed="rId1"/>
          <a:stretch/>
        </p:blipFill>
        <p:spPr>
          <a:xfrm>
            <a:off x="4648320" y="1066680"/>
            <a:ext cx="4495680" cy="2583000"/>
          </a:xfrm>
          <a:prstGeom prst="rect">
            <a:avLst/>
          </a:prstGeom>
          <a:ln w="0">
            <a:noFill/>
          </a:ln>
        </p:spPr>
      </p:pic>
      <p:pic>
        <p:nvPicPr>
          <p:cNvPr id="93" name="Picture 4" descr="FH000005"/>
          <p:cNvPicPr/>
          <p:nvPr/>
        </p:nvPicPr>
        <p:blipFill>
          <a:blip r:embed="rId2"/>
          <a:stretch/>
        </p:blipFill>
        <p:spPr>
          <a:xfrm>
            <a:off x="0" y="1143000"/>
            <a:ext cx="4419720" cy="2538360"/>
          </a:xfrm>
          <a:prstGeom prst="rect">
            <a:avLst/>
          </a:prstGeom>
          <a:ln w="0">
            <a:noFill/>
          </a:ln>
        </p:spPr>
      </p:pic>
      <p:sp>
        <p:nvSpPr>
          <p:cNvPr id="94" name="Text Box 13"/>
          <p:cNvSpPr/>
          <p:nvPr/>
        </p:nvSpPr>
        <p:spPr>
          <a:xfrm>
            <a:off x="304920" y="3886200"/>
            <a:ext cx="8458200" cy="262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pescadores recordaron sus métodos tradicionale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habitantes del arrecife tienen “memoria evolutiva”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adaptación entre sí.</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cogieron el santuario recordando el mejor arrecif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sucitaron práctica de “tomar solo lo necesario del m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0" lang="es-MX" sz="3200" spc="-1" strike="noStrike">
                <a:solidFill>
                  <a:srgbClr val="333399"/>
                </a:solidFill>
                <a:latin typeface="Arial"/>
              </a:rPr>
              <a:t>Construyendo resiliencia</a:t>
            </a:r>
            <a:endParaRPr b="0" lang="en-US" sz="3200" spc="-1" strike="noStrike">
              <a:solidFill>
                <a:srgbClr val="000000"/>
              </a:solidFill>
              <a:latin typeface="Arial"/>
            </a:endParaRPr>
          </a:p>
        </p:txBody>
      </p:sp>
      <p:pic>
        <p:nvPicPr>
          <p:cNvPr id="96" name="Picture 12" descr="kids on see saw 2"/>
          <p:cNvPicPr/>
          <p:nvPr/>
        </p:nvPicPr>
        <p:blipFill>
          <a:blip r:embed="rId1"/>
          <a:stretch/>
        </p:blipFill>
        <p:spPr>
          <a:xfrm>
            <a:off x="3809880" y="1143000"/>
            <a:ext cx="4724640" cy="3541680"/>
          </a:xfrm>
          <a:prstGeom prst="rect">
            <a:avLst/>
          </a:prstGeom>
          <a:ln w="0">
            <a:noFill/>
          </a:ln>
        </p:spPr>
      </p:pic>
      <p:sp>
        <p:nvSpPr>
          <p:cNvPr id="97" name="Text Box 14"/>
          <p:cNvSpPr/>
          <p:nvPr/>
        </p:nvSpPr>
        <p:spPr>
          <a:xfrm>
            <a:off x="0" y="4876920"/>
            <a:ext cx="9198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daptación a nuevas dificultade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usieron límites al turismo para evitar daños al arrecif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experiencia, orgullo, compromiso, educación y habilidad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fesionales fortalecen su capacidad de respuesta a futuro.</a:t>
            </a:r>
            <a:endParaRPr b="0" lang="en-US" sz="2400" spc="-1" strike="noStrike">
              <a:solidFill>
                <a:srgbClr val="000000"/>
              </a:solidFill>
              <a:latin typeface="Arial"/>
            </a:endParaRPr>
          </a:p>
        </p:txBody>
      </p:sp>
      <p:pic>
        <p:nvPicPr>
          <p:cNvPr id="98" name="Picture 10" descr="restaurant.JPG"/>
          <p:cNvPicPr/>
          <p:nvPr/>
        </p:nvPicPr>
        <p:blipFill>
          <a:blip r:embed="rId2"/>
          <a:stretch/>
        </p:blipFill>
        <p:spPr>
          <a:xfrm>
            <a:off x="304920" y="609480"/>
            <a:ext cx="2666880" cy="2000520"/>
          </a:xfrm>
          <a:prstGeom prst="rect">
            <a:avLst/>
          </a:prstGeom>
          <a:ln w="0">
            <a:noFill/>
          </a:ln>
        </p:spPr>
      </p:pic>
      <p:pic>
        <p:nvPicPr>
          <p:cNvPr id="99" name="Picture 11" descr="men carrying fish.JPG"/>
          <p:cNvPicPr/>
          <p:nvPr/>
        </p:nvPicPr>
        <p:blipFill>
          <a:blip r:embed="rId3"/>
          <a:stretch/>
        </p:blipFill>
        <p:spPr>
          <a:xfrm>
            <a:off x="304920" y="2779560"/>
            <a:ext cx="2666880" cy="19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Estímulo y facilitación externas</a:t>
            </a:r>
            <a:endParaRPr b="0" lang="en-US" sz="3200" spc="-1" strike="noStrike">
              <a:solidFill>
                <a:srgbClr val="000000"/>
              </a:solidFill>
              <a:latin typeface="Arial"/>
            </a:endParaRPr>
          </a:p>
        </p:txBody>
      </p:sp>
      <p:sp>
        <p:nvSpPr>
          <p:cNvPr id="53" name="Text Box 3"/>
          <p:cNvSpPr/>
          <p:nvPr/>
        </p:nvSpPr>
        <p:spPr>
          <a:xfrm>
            <a:off x="304920" y="4425840"/>
            <a:ext cx="8381880" cy="2410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foráneos trajeron ideas nueva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n biólogo marino ayudó a los isleños a comprender la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risis e introdujo el concepto de la reserva marina.</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NGs ayudaron (a) asegurar la autoridad local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 establecer un programa de planificación familiar.</a:t>
            </a:r>
            <a:endParaRPr b="0" lang="en-US" sz="2400" spc="-1" strike="noStrike">
              <a:solidFill>
                <a:srgbClr val="000000"/>
              </a:solidFill>
              <a:latin typeface="Arial"/>
            </a:endParaRPr>
          </a:p>
        </p:txBody>
      </p:sp>
      <p:sp>
        <p:nvSpPr>
          <p:cNvPr id="54"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5" name="Picture 5" descr="Alcala photo #4"/>
          <p:cNvPicPr/>
          <p:nvPr/>
        </p:nvPicPr>
        <p:blipFill>
          <a:blip r:embed="rId1"/>
          <a:stretch/>
        </p:blipFill>
        <p:spPr>
          <a:xfrm>
            <a:off x="0" y="990720"/>
            <a:ext cx="4572000" cy="3159000"/>
          </a:xfrm>
          <a:prstGeom prst="rect">
            <a:avLst/>
          </a:prstGeom>
          <a:ln w="0">
            <a:noFill/>
          </a:ln>
        </p:spPr>
      </p:pic>
      <p:pic>
        <p:nvPicPr>
          <p:cNvPr id="56" name="Picture 9" descr="Alcala photo #3 (Labeling revised).JPG"/>
          <p:cNvPicPr/>
          <p:nvPr/>
        </p:nvPicPr>
        <p:blipFill>
          <a:blip r:embed="rId2"/>
          <a:stretch/>
        </p:blipFill>
        <p:spPr>
          <a:xfrm>
            <a:off x="4876920" y="990720"/>
            <a:ext cx="4267080" cy="313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759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Sólidas instituciones democráticas y compromiso duradero por parte del liderazgo local</a:t>
            </a:r>
            <a:endParaRPr b="0" lang="en-US" sz="3000" spc="-1" strike="noStrike">
              <a:solidFill>
                <a:srgbClr val="000000"/>
              </a:solidFill>
              <a:latin typeface="Arial"/>
            </a:endParaRPr>
          </a:p>
        </p:txBody>
      </p:sp>
      <p:pic>
        <p:nvPicPr>
          <p:cNvPr id="58" name="Picture 3" descr="DH000047"/>
          <p:cNvPicPr/>
          <p:nvPr/>
        </p:nvPicPr>
        <p:blipFill>
          <a:blip r:embed="rId1"/>
          <a:stretch/>
        </p:blipFill>
        <p:spPr>
          <a:xfrm>
            <a:off x="0" y="1143000"/>
            <a:ext cx="4286160" cy="3370320"/>
          </a:xfrm>
          <a:prstGeom prst="rect">
            <a:avLst/>
          </a:prstGeom>
          <a:ln w="0">
            <a:noFill/>
          </a:ln>
        </p:spPr>
      </p:pic>
      <p:pic>
        <p:nvPicPr>
          <p:cNvPr id="59" name="Picture 4" descr="discussion group"/>
          <p:cNvPicPr/>
          <p:nvPr/>
        </p:nvPicPr>
        <p:blipFill>
          <a:blip r:embed="rId2"/>
          <a:stretch/>
        </p:blipFill>
        <p:spPr>
          <a:xfrm>
            <a:off x="4648320" y="1143000"/>
            <a:ext cx="4495680" cy="3371760"/>
          </a:xfrm>
          <a:prstGeom prst="rect">
            <a:avLst/>
          </a:prstGeom>
          <a:ln w="0">
            <a:noFill/>
          </a:ln>
        </p:spPr>
      </p:pic>
      <p:sp>
        <p:nvSpPr>
          <p:cNvPr id="60" name="Text Box 9"/>
          <p:cNvSpPr/>
          <p:nvPr/>
        </p:nvSpPr>
        <p:spPr>
          <a:xfrm>
            <a:off x="289080" y="552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1" name="Text Box 10"/>
          <p:cNvSpPr/>
          <p:nvPr/>
        </p:nvSpPr>
        <p:spPr>
          <a:xfrm>
            <a:off x="517680" y="484020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11"/>
          <p:cNvSpPr/>
          <p:nvPr/>
        </p:nvSpPr>
        <p:spPr>
          <a:xfrm>
            <a:off x="898560" y="514512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 Box 12"/>
          <p:cNvSpPr/>
          <p:nvPr/>
        </p:nvSpPr>
        <p:spPr>
          <a:xfrm>
            <a:off x="304920" y="4648320"/>
            <a:ext cx="883908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iciativa del gobierno local (</a:t>
            </a:r>
            <a:r>
              <a:rPr b="0" i="1" lang="es-MX" sz="2400" spc="-1" strike="noStrike">
                <a:solidFill>
                  <a:srgbClr val="000000"/>
                </a:solidFill>
                <a:latin typeface="Arial"/>
              </a:rPr>
              <a:t>barangay</a:t>
            </a:r>
            <a:r>
              <a:rPr b="0" lang="es-MX" sz="2400" spc="-1" strike="noStrike">
                <a:solidFill>
                  <a:srgbClr val="000000"/>
                </a:solidFill>
                <a:latin typeface="Arial"/>
              </a:rPr>
              <a: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omunidad participó en negociaciones intensa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s decisiones fueron tomadas por representantes de tod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s familias isleñ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2280"/>
            <a:ext cx="9524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Co-adapción entre el sistema social y el ecosistema</a:t>
            </a:r>
            <a:endParaRPr b="0" lang="en-US" sz="3000" spc="-1" strike="noStrike">
              <a:solidFill>
                <a:srgbClr val="000000"/>
              </a:solidFill>
              <a:latin typeface="Arial"/>
            </a:endParaRPr>
          </a:p>
        </p:txBody>
      </p:sp>
      <p:pic>
        <p:nvPicPr>
          <p:cNvPr id="65" name="Picture 5" descr="フィリピン 082"/>
          <p:cNvPicPr/>
          <p:nvPr/>
        </p:nvPicPr>
        <p:blipFill>
          <a:blip r:embed="rId1"/>
          <a:stretch/>
        </p:blipFill>
        <p:spPr>
          <a:xfrm>
            <a:off x="4572000" y="990720"/>
            <a:ext cx="4572000" cy="3429000"/>
          </a:xfrm>
          <a:prstGeom prst="rect">
            <a:avLst/>
          </a:prstGeom>
          <a:ln w="0">
            <a:noFill/>
          </a:ln>
        </p:spPr>
      </p:pic>
      <p:sp>
        <p:nvSpPr>
          <p:cNvPr id="66" name="Text Box 7"/>
          <p:cNvSpPr/>
          <p:nvPr/>
        </p:nvSpPr>
        <p:spPr>
          <a:xfrm>
            <a:off x="0" y="457200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omunidad compartió la creación y gestión del santuari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red de confianzas y obligaciones fomentó el compromiso.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tablecen reglas sencillas basadas en sabiduría comunitaria.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 la protección, el ecosistema se sana a si mis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8" descr="aporeef"/>
          <p:cNvPicPr/>
          <p:nvPr/>
        </p:nvPicPr>
        <p:blipFill>
          <a:blip r:embed="rId2"/>
          <a:stretch/>
        </p:blipFill>
        <p:spPr>
          <a:xfrm>
            <a:off x="0" y="990720"/>
            <a:ext cx="4191120" cy="346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a:t>
            </a:r>
            <a:r>
              <a:rPr b="0" lang="es-MX" sz="3200" spc="-1" strike="noStrike">
                <a:solidFill>
                  <a:srgbClr val="333399"/>
                </a:solidFill>
                <a:latin typeface="Arial"/>
              </a:rPr>
              <a:t>Permitir que la naturaleza haga el trabajo"</a:t>
            </a:r>
            <a:endParaRPr b="0" lang="en-US" sz="3200" spc="-1" strike="noStrike">
              <a:solidFill>
                <a:srgbClr val="000000"/>
              </a:solidFill>
              <a:latin typeface="Arial"/>
            </a:endParaRPr>
          </a:p>
        </p:txBody>
      </p:sp>
      <p:pic>
        <p:nvPicPr>
          <p:cNvPr id="69" name="Picture 9" descr="damselfish"/>
          <p:cNvPicPr/>
          <p:nvPr/>
        </p:nvPicPr>
        <p:blipFill>
          <a:blip r:embed="rId1"/>
          <a:stretch/>
        </p:blipFill>
        <p:spPr>
          <a:xfrm>
            <a:off x="4419720" y="990720"/>
            <a:ext cx="4724280" cy="3541680"/>
          </a:xfrm>
          <a:prstGeom prst="rect">
            <a:avLst/>
          </a:prstGeom>
          <a:ln w="0">
            <a:noFill/>
          </a:ln>
        </p:spPr>
      </p:pic>
      <p:sp>
        <p:nvSpPr>
          <p:cNvPr id="70" name="Text Box 11"/>
          <p:cNvSpPr/>
          <p:nvPr/>
        </p:nvSpPr>
        <p:spPr>
          <a:xfrm>
            <a:off x="414000" y="4876920"/>
            <a:ext cx="81781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l ser protegidos los peces pudieron repoblar el arrecif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naturaleza puede restaurar ecosistemas enter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humanos jamás podrían realizar tal restauración.</a:t>
            </a:r>
            <a:endParaRPr b="0" lang="en-US" sz="2400" spc="-1" strike="noStrike">
              <a:solidFill>
                <a:srgbClr val="000000"/>
              </a:solidFill>
              <a:latin typeface="Arial"/>
            </a:endParaRPr>
          </a:p>
        </p:txBody>
      </p:sp>
      <p:pic>
        <p:nvPicPr>
          <p:cNvPr id="71" name="Picture 12" descr="Apo-Island-Aerial-View"/>
          <p:cNvPicPr/>
          <p:nvPr/>
        </p:nvPicPr>
        <p:blipFill>
          <a:blip r:embed="rId2"/>
          <a:stretch/>
        </p:blipFill>
        <p:spPr>
          <a:xfrm>
            <a:off x="0" y="990720"/>
            <a:ext cx="4648320" cy="355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743200" y="152280"/>
            <a:ext cx="37339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Resultados rápidos</a:t>
            </a:r>
            <a:endParaRPr b="0" lang="en-US" sz="3200" spc="-1" strike="noStrike">
              <a:solidFill>
                <a:srgbClr val="000000"/>
              </a:solidFill>
              <a:latin typeface="Arial"/>
            </a:endParaRPr>
          </a:p>
        </p:txBody>
      </p:sp>
      <p:pic>
        <p:nvPicPr>
          <p:cNvPr id="73" name="Picture 8" descr="awimFNc1zjal0mnnV77nn2k9o1_500"/>
          <p:cNvPicPr/>
          <p:nvPr/>
        </p:nvPicPr>
        <p:blipFill>
          <a:blip r:embed="rId1"/>
          <a:stretch/>
        </p:blipFill>
        <p:spPr>
          <a:xfrm>
            <a:off x="2666880" y="933480"/>
            <a:ext cx="3353040" cy="2514600"/>
          </a:xfrm>
          <a:prstGeom prst="rect">
            <a:avLst/>
          </a:prstGeom>
          <a:ln w="0">
            <a:noFill/>
          </a:ln>
        </p:spPr>
      </p:pic>
      <p:pic>
        <p:nvPicPr>
          <p:cNvPr id="74" name="Picture 10" descr="1225383640-large"/>
          <p:cNvPicPr/>
          <p:nvPr/>
        </p:nvPicPr>
        <p:blipFill>
          <a:blip r:embed="rId2"/>
          <a:stretch/>
        </p:blipFill>
        <p:spPr>
          <a:xfrm>
            <a:off x="0" y="960480"/>
            <a:ext cx="3124080" cy="2468520"/>
          </a:xfrm>
          <a:prstGeom prst="rect">
            <a:avLst/>
          </a:prstGeom>
          <a:ln w="0">
            <a:noFill/>
          </a:ln>
        </p:spPr>
      </p:pic>
      <p:sp>
        <p:nvSpPr>
          <p:cNvPr id="75" name="Text Box 11"/>
          <p:cNvSpPr/>
          <p:nvPr/>
        </p:nvSpPr>
        <p:spPr>
          <a:xfrm>
            <a:off x="0" y="402732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los tres años el santuario estaba repleto de pec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spirados por su éxito comenzaron a gestionar su pesquerí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turismo arrecifal reforzó el deseo de proteger el arrecife.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nto surgieron nuevos empleos en el sector turístic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odos estos resultados rápidos aumentaron el compromiso.</a:t>
            </a:r>
            <a:endParaRPr b="0" lang="en-US" sz="2400" spc="-1" strike="noStrike">
              <a:solidFill>
                <a:srgbClr val="000000"/>
              </a:solidFill>
              <a:latin typeface="Arial"/>
            </a:endParaRPr>
          </a:p>
        </p:txBody>
      </p:sp>
      <p:pic>
        <p:nvPicPr>
          <p:cNvPr id="76" name="Picture 12" descr="KIF_1371"/>
          <p:cNvPicPr/>
          <p:nvPr/>
        </p:nvPicPr>
        <p:blipFill>
          <a:blip r:embed="rId3"/>
          <a:stretch/>
        </p:blipFill>
        <p:spPr>
          <a:xfrm>
            <a:off x="5791320" y="9144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0"/>
            <a:ext cx="5791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Un símbolo poderoso</a:t>
            </a:r>
            <a:endParaRPr b="0" lang="en-US" sz="3200" spc="-1" strike="noStrike">
              <a:solidFill>
                <a:srgbClr val="000000"/>
              </a:solidFill>
              <a:latin typeface="Arial"/>
            </a:endParaRPr>
          </a:p>
        </p:txBody>
      </p:sp>
      <p:pic>
        <p:nvPicPr>
          <p:cNvPr id="78" name="Picture 3" descr="2004年夏フィリピン旅行② 029"/>
          <p:cNvPicPr/>
          <p:nvPr/>
        </p:nvPicPr>
        <p:blipFill>
          <a:blip r:embed="rId1"/>
          <a:stretch/>
        </p:blipFill>
        <p:spPr>
          <a:xfrm>
            <a:off x="0" y="1066680"/>
            <a:ext cx="4572000" cy="3427560"/>
          </a:xfrm>
          <a:prstGeom prst="rect">
            <a:avLst/>
          </a:prstGeom>
          <a:ln w="0">
            <a:noFill/>
          </a:ln>
        </p:spPr>
      </p:pic>
      <p:pic>
        <p:nvPicPr>
          <p:cNvPr id="79" name="Picture 7" descr="sanct-jacks"/>
          <p:cNvPicPr/>
          <p:nvPr/>
        </p:nvPicPr>
        <p:blipFill>
          <a:blip r:embed="rId2"/>
          <a:stretch/>
        </p:blipFill>
        <p:spPr>
          <a:xfrm>
            <a:off x="4572000" y="1066680"/>
            <a:ext cx="4567320" cy="3424320"/>
          </a:xfrm>
          <a:prstGeom prst="rect">
            <a:avLst/>
          </a:prstGeom>
          <a:ln w="0">
            <a:noFill/>
          </a:ln>
        </p:spPr>
      </p:pic>
      <p:sp>
        <p:nvSpPr>
          <p:cNvPr id="80" name="Text Box 10"/>
          <p:cNvSpPr/>
          <p:nvPr/>
        </p:nvSpPr>
        <p:spPr>
          <a:xfrm>
            <a:off x="423360" y="4800600"/>
            <a:ext cx="79239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santuario es sagrado porque salvó su estilo de vid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 un símbolo de sus logros y su orgull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 impensable violar este símbo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Superando obstáculos sociales</a:t>
            </a:r>
            <a:endParaRPr b="0" lang="en-US" sz="3200" spc="-1" strike="noStrike">
              <a:solidFill>
                <a:srgbClr val="000000"/>
              </a:solidFill>
              <a:latin typeface="Arial"/>
            </a:endParaRPr>
          </a:p>
        </p:txBody>
      </p:sp>
      <p:pic>
        <p:nvPicPr>
          <p:cNvPr id="82" name="Picture 4" descr="フィリピン 087"/>
          <p:cNvPicPr/>
          <p:nvPr/>
        </p:nvPicPr>
        <p:blipFill>
          <a:blip r:embed="rId1"/>
          <a:stretch/>
        </p:blipFill>
        <p:spPr>
          <a:xfrm>
            <a:off x="4876920" y="743040"/>
            <a:ext cx="3581280" cy="2685960"/>
          </a:xfrm>
          <a:prstGeom prst="rect">
            <a:avLst/>
          </a:prstGeom>
          <a:ln w="0">
            <a:noFill/>
          </a:ln>
        </p:spPr>
      </p:pic>
      <p:pic>
        <p:nvPicPr>
          <p:cNvPr id="83" name="Picture 5" descr="2004年夏フィリピン旅行② 030"/>
          <p:cNvPicPr/>
          <p:nvPr/>
        </p:nvPicPr>
        <p:blipFill>
          <a:blip r:embed="rId2"/>
          <a:stretch/>
        </p:blipFill>
        <p:spPr>
          <a:xfrm>
            <a:off x="685800" y="744480"/>
            <a:ext cx="3581280" cy="2684520"/>
          </a:xfrm>
          <a:prstGeom prst="rect">
            <a:avLst/>
          </a:prstGeom>
          <a:ln w="0">
            <a:noFill/>
          </a:ln>
        </p:spPr>
      </p:pic>
      <p:sp>
        <p:nvSpPr>
          <p:cNvPr id="84" name="Text Box 8"/>
          <p:cNvSpPr/>
          <p:nvPr/>
        </p:nvSpPr>
        <p:spPr>
          <a:xfrm>
            <a:off x="154080" y="3429000"/>
            <a:ext cx="88916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sistemas sociales pueden obstaculizar el éxit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isleños crearon un plan sencillo de rotar guardia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gobierno reprobó las reglas de los lugareñ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isleños negociaron con el gobierno hasta lograr acuerd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gobierno ha absorbido el manejo de las cuotas a turista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autonomía local puede ayudar a resolver estas proble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71600" y="-228600"/>
            <a:ext cx="63244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iversidad social y ambiental</a:t>
            </a:r>
            <a:endParaRPr b="0" lang="en-US" sz="3200" spc="-1" strike="noStrike">
              <a:solidFill>
                <a:srgbClr val="000000"/>
              </a:solidFill>
              <a:latin typeface="Arial"/>
            </a:endParaRPr>
          </a:p>
        </p:txBody>
      </p:sp>
      <p:sp>
        <p:nvSpPr>
          <p:cNvPr id="86" name="Rectangle 8"/>
          <p:cNvSpPr/>
          <p:nvPr/>
        </p:nvSpPr>
        <p:spPr>
          <a:xfrm>
            <a:off x="1335240" y="2455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7" name="Picture 10" descr="2004年夏フィリピン旅行② 016"/>
          <p:cNvPicPr/>
          <p:nvPr/>
        </p:nvPicPr>
        <p:blipFill>
          <a:blip r:embed="rId1"/>
          <a:stretch/>
        </p:blipFill>
        <p:spPr>
          <a:xfrm>
            <a:off x="0" y="914400"/>
            <a:ext cx="3200400" cy="2398680"/>
          </a:xfrm>
          <a:prstGeom prst="rect">
            <a:avLst/>
          </a:prstGeom>
          <a:ln w="0">
            <a:noFill/>
          </a:ln>
        </p:spPr>
      </p:pic>
      <p:sp>
        <p:nvSpPr>
          <p:cNvPr id="88" name="Text Box 13"/>
          <p:cNvSpPr/>
          <p:nvPr/>
        </p:nvSpPr>
        <p:spPr>
          <a:xfrm>
            <a:off x="0" y="344160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diversidad brinda mayor oportunidad de buenas opcion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diversidad de especies permitió al ecosistema recuperars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isleños expandieron sus ideas con la de los foráne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diversidad arrecifal atrajo al turism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turismo brindó más opciones de emple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s oportunidades educativas resultan en nuevas carreras.</a:t>
            </a:r>
            <a:endParaRPr b="0" lang="en-US" sz="2400" spc="-1" strike="noStrike">
              <a:solidFill>
                <a:srgbClr val="000000"/>
              </a:solidFill>
              <a:latin typeface="Arial"/>
            </a:endParaRPr>
          </a:p>
        </p:txBody>
      </p:sp>
      <p:pic>
        <p:nvPicPr>
          <p:cNvPr id="89" name="Picture 17" descr="1716461994_f35f69c3a5"/>
          <p:cNvPicPr/>
          <p:nvPr/>
        </p:nvPicPr>
        <p:blipFill>
          <a:blip r:embed="rId2"/>
          <a:stretch/>
        </p:blipFill>
        <p:spPr>
          <a:xfrm>
            <a:off x="3352680" y="914400"/>
            <a:ext cx="3200400" cy="2400480"/>
          </a:xfrm>
          <a:prstGeom prst="rect">
            <a:avLst/>
          </a:prstGeom>
          <a:ln w="0">
            <a:noFill/>
          </a:ln>
        </p:spPr>
      </p:pic>
      <p:pic>
        <p:nvPicPr>
          <p:cNvPr id="90" name="Picture 11" descr="Alcala photo #7.jpg"/>
          <p:cNvPicPr/>
          <p:nvPr/>
        </p:nvPicPr>
        <p:blipFill>
          <a:blip r:embed="rId3"/>
          <a:stretch/>
        </p:blipFill>
        <p:spPr>
          <a:xfrm>
            <a:off x="6705720" y="914400"/>
            <a:ext cx="2435040" cy="237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4:42:15Z</dcterms:created>
  <dc:creator>Office 2004 Test Drive User</dc:creator>
  <dc:description/>
  <dc:language>en-US</dc:language>
  <cp:lastModifiedBy>Gerry Marten</cp:lastModifiedBy>
  <dcterms:modified xsi:type="dcterms:W3CDTF">2010-10-06T06:52:56Z</dcterms:modified>
  <cp:revision>101</cp:revision>
  <dc:subject/>
  <dc:title>Apo Island</dc:title>
</cp:coreProperties>
</file>